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940A-8ADB-4B19-B257-B62A594DD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401B-7C90-462A-89B8-91DF10894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06B5-65A9-4544-9000-16ED646CF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6D4D-FC5C-4DD6-9539-E01258537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6E6D-741E-403C-A322-5DEEDE63B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9C89-951B-4C6F-9B66-B7E29D482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0A82-1C22-4AD5-8F7D-748164663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C571-DD2A-430D-ACE0-7D4D14366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06B8-5761-4332-B7E4-2BB1AF70B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17AB-BFA3-4EF1-A2BD-AF4B70D7F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3F32-2414-4FF4-B8C1-9F1CF63F9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CED7-D7F9-4414-BC50-E80ECBD56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mbria Math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 Math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 Math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 Math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 Math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 Math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 Math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 Math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5473F-EDF3-4601-BF1C-75BDE64EAF3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mbria Math"/>
              </a:rPr>
              <a:t>Introduction to Regression</a:t>
            </a: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0000"/>
                </a:solidFill>
                <a:latin typeface="Cambria Math"/>
              </a:rPr>
              <a:t>Fitting straight lines to bivariate date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mbria Math"/>
              </a:rPr>
              <a:t>Fitting a straight line by eye</a:t>
            </a: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In a set of bivariate data, we may wish to determine whether a linear relationship exists between the two variables.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Usually a single straight line will not go through all the points. 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To fit a straight line by eye, draw a line so that there are equal numbers of points above and below the line.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mbria Math"/>
              </a:rPr>
              <a:t>Finding the equation of the line</a:t>
            </a: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Once you have drawn the line, you may be asked to determine the equation of the line.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Choose two points </a:t>
            </a:r>
            <a:r>
              <a:rPr b="1" lang="en-AU" sz="3200" spc="-1" strike="noStrike" u="sng">
                <a:solidFill>
                  <a:srgbClr val="000000"/>
                </a:solidFill>
                <a:uFillTx/>
                <a:latin typeface="Cambria Math"/>
              </a:rPr>
              <a:t>on the line </a:t>
            </a: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and determine their coordinates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Then,                        , and find c from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                              </a:t>
            </a: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or   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graphicFrame>
        <p:nvGraphicFramePr>
          <p:cNvPr id="47" name="Object 2"/>
          <p:cNvGraphicFramePr/>
          <p:nvPr/>
        </p:nvGraphicFramePr>
        <p:xfrm>
          <a:off x="1928880" y="4071960"/>
          <a:ext cx="2071800" cy="129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28880" y="4071960"/>
                    <a:ext cx="2071800" cy="12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" name="Object 3"/>
          <p:cNvGraphicFramePr/>
          <p:nvPr/>
        </p:nvGraphicFramePr>
        <p:xfrm>
          <a:off x="5929200" y="3214800"/>
          <a:ext cx="2316240" cy="571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29200" y="3214800"/>
                    <a:ext cx="231624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" name="Object 4"/>
          <p:cNvGraphicFramePr/>
          <p:nvPr/>
        </p:nvGraphicFramePr>
        <p:xfrm>
          <a:off x="785880" y="5500800"/>
          <a:ext cx="2251080" cy="67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85880" y="5500800"/>
                    <a:ext cx="2251080" cy="67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Object 5"/>
          <p:cNvGraphicFramePr/>
          <p:nvPr/>
        </p:nvGraphicFramePr>
        <p:xfrm>
          <a:off x="3786120" y="5500800"/>
          <a:ext cx="2368440" cy="714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4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786120" y="5500800"/>
                    <a:ext cx="236844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mbria Math"/>
              </a:rPr>
              <a:t>Exercise 3A</a:t>
            </a: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1(a)(e)(i)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2(a)(b)(c)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8T01:33:27Z</dcterms:created>
  <dc:creator>08843474</dc:creator>
  <dc:description/>
  <dc:language>en-US</dc:language>
  <cp:lastModifiedBy>08843474</cp:lastModifiedBy>
  <dcterms:modified xsi:type="dcterms:W3CDTF">2011-03-03T23:50:12Z</dcterms:modified>
  <cp:revision>4</cp:revision>
  <dc:subject/>
  <dc:title>Introduction to Regression</dc:title>
</cp:coreProperties>
</file>